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85C-8D7C-4B59-A71A-CA167602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9C9-0B53-454B-9255-9966000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EC9-B203-4C46-B801-5B062C74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BF2-5DFE-48C4-B112-2A0A1D97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47C-E199-4E3C-BD5A-1B9BC9FF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980-A0A4-433E-97E1-F1869841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31C-69CE-4A99-AF3D-1C983036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B53-4C43-455C-89EB-852FBF64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A49-2CA2-4D0D-ABFF-B39A6189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5A4-8BC6-44CA-8313-E098CA7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CFE-8955-43F3-AEC0-A97DD5E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7BB-3838-428C-A9B6-10075FA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925-2287-4292-84DE-192CC51DB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600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Sea Shant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5240" y="2336760"/>
            <a:ext cx="5715000" cy="383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81400" y="6197760"/>
            <a:ext cx="5316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pper ships were very fast, and were used to haul cargo across the atlantic oce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320" y="5994000"/>
            <a:ext cx="9658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apstan was used to raise the anchor, which was much too heavy for a person to pull up by 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1680" y="1117440"/>
            <a:ext cx="4724280" cy="42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27640" y="812880"/>
            <a:ext cx="4745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agine these men singing a capstan shanty to walk in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320" y="5587920"/>
            <a:ext cx="96584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halyards had to be hauled up the mast with ropes and human strength! Halyard shanties repeated a key word at regular intervals which signaled the men to pull when singing the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15920" y="304920"/>
            <a:ext cx="80359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0320" y="101520"/>
            <a:ext cx="6113520" cy="74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